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8EA-1C41-488B-8206-5F48EFA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66-E6E8-4A96-AF38-6CBB2305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CD4-C897-4EB1-87CC-199B0A87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00D-6237-4B08-8A3E-AD7487A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7AB-3B9B-4311-91A9-E01F5E7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095-CD5C-4D60-AB7A-889422A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674-5821-4E1E-9CC2-BD1205F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C69-4F32-4527-9C13-A3607289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0B3-A819-48F7-B443-D8F1261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737-C75F-4DB2-B508-8D6ED35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B38-B9E4-45EE-A6AD-1B4F871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982-703F-4DD9-961F-F633DE44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38B1-E60D-427C-BDAE-0F763CEE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sp>
        <p:nvSpPr>
          <p:cNvPr id="42" name=""/>
          <p:cNvSpPr/>
          <p:nvPr/>
        </p:nvSpPr>
        <p:spPr>
          <a:xfrm>
            <a:off x="209160" y="190080"/>
            <a:ext cx="8767080" cy="311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_AlbionicNr"/>
              </a:rPr>
              <a:t>Елате всички дне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_AlbionicNr"/>
              </a:rPr>
              <a:t>да слави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вечната Му люб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1457280" cy="194472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9192" dir="3018055" blurRad="0" rotWithShape="0">
              <a:srgbClr val="000099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1027080" cy="202068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1658" dir="7417659" blurRad="0" rotWithShape="0">
              <a:srgbClr val="000099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195640" y="4995720"/>
            <a:ext cx="2663640" cy="145764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99192" dir="3018055" blurRad="0" rotWithShape="0">
              <a:srgbClr val="000099"/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42920" y="115920"/>
            <a:ext cx="8207280" cy="7314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Елате всички днес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всички днес и запейте в х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Пейте вий</a:t>
            </a:r>
            <a:r>
              <a:rPr b="0" lang="bg-BG" sz="7200" spc="-1" strike="noStrike">
                <a:solidFill>
                  <a:srgbClr val="ccffff"/>
                </a:solidFill>
                <a:latin typeface="a_AlbionicNr"/>
              </a:rPr>
              <a:t> </a:t>
            </a: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_AlbionicNr"/>
              </a:rPr>
              <a:t>нашия Бог!</a:t>
            </a:r>
            <a:r>
              <a:rPr b="0" lang="en-US" sz="8800" spc="-1" strike="noStrike">
                <a:solidFill>
                  <a:srgbClr val="ccffff"/>
                </a:solidFill>
                <a:latin typeface="a_AlbionicNr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2276640"/>
            <a:ext cx="1326960" cy="19746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56832" dir="7003641" blurRad="0" rotWithShape="0">
              <a:srgbClr val="000066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67840" y="5229360"/>
            <a:ext cx="776160" cy="142704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1185" dir="3078030" blurRad="0" rotWithShape="0">
              <a:srgbClr val="000066"/>
            </a:outerShdw>
          </a:effectLst>
        </p:spPr>
      </p:pic>
    </p:spTree>
  </p:cSld>
  <p:transition advTm="21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-1726560"/>
            <a:ext cx="7993080" cy="701064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_AlbionicNr"/>
              </a:rPr>
              <a:t>Божият Син</a:t>
            </a:r>
            <a:r>
              <a:rPr b="0" lang="en-US" sz="6600" spc="-1" strike="noStrike">
                <a:solidFill>
                  <a:srgbClr val="ffffff"/>
                </a:solidFill>
                <a:latin typeface="a_AlbionicN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ff"/>
                </a:solidFill>
                <a:latin typeface="a_AlbionicNr"/>
              </a:rPr>
              <a:t>               </a:t>
            </a:r>
            <a:r>
              <a:rPr b="0" lang="en-US" sz="6600" spc="-1" strike="noStrike">
                <a:solidFill>
                  <a:srgbClr val="ffffff"/>
                </a:solidFill>
                <a:latin typeface="a_AlbionicNr"/>
              </a:rPr>
              <a:t>дойде 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_AlbionicNr"/>
              </a:rPr>
              <a:t>    </a:t>
            </a:r>
            <a:r>
              <a:rPr b="0" lang="en-US" sz="8800" spc="-1" strike="noStrike">
                <a:solidFill>
                  <a:srgbClr val="ffff00"/>
                </a:solidFill>
                <a:latin typeface="a_AlbionicNr"/>
              </a:rPr>
              <a:t>дари живот</a:t>
            </a:r>
            <a:r>
              <a:rPr b="0" lang="bg-BG" sz="8800" spc="-1" strike="noStrike">
                <a:solidFill>
                  <a:srgbClr val="ffff00"/>
                </a:solidFill>
                <a:latin typeface="a_AlbionicNr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2539800" cy="36720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9184" dir="7528307" blurRad="0" rotWithShape="0">
              <a:srgbClr val="000066"/>
            </a:outerShdw>
          </a:effectLst>
        </p:spPr>
      </p:pic>
    </p:spTree>
  </p:cSld>
  <p:transition advTm="6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240" y="404640"/>
            <a:ext cx="9000000" cy="58546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Ний славим Т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                   </a:t>
            </a:r>
            <a:r>
              <a:rPr b="0" lang="bg-BG" sz="5400" spc="-1" strike="noStrike">
                <a:solidFill>
                  <a:srgbClr val="ccffff"/>
                </a:solidFill>
                <a:latin typeface="a_AlbionicNr"/>
              </a:rPr>
              <a:t>Цар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за радостта и надежда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поднасяме Ти в Твоя чес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00"/>
                </a:solidFill>
                <a:latin typeface="a_AlbionicNr"/>
              </a:rPr>
              <a:t>таз песен на хв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097080" cy="22320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9604" dir="13500000" blurRad="0" rotWithShape="0">
              <a:srgbClr val="000066"/>
            </a:outerShdw>
          </a:effectLst>
        </p:spPr>
      </p:pic>
    </p:spTree>
  </p:cSld>
  <p:transition advTm="13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15920"/>
            <a:ext cx="8388360" cy="89290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Елате всички днес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всички днес и запейте в х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Пейте вий</a:t>
            </a:r>
            <a:r>
              <a:rPr b="0" lang="bg-BG" sz="7200" spc="-1" strike="noStrike">
                <a:solidFill>
                  <a:srgbClr val="ccffff"/>
                </a:solidFill>
                <a:latin typeface="a_AlbionicNr"/>
              </a:rPr>
              <a:t> </a:t>
            </a: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600" spc="-1" strike="noStrike">
                <a:solidFill>
                  <a:srgbClr val="ffff00"/>
                </a:solidFill>
                <a:latin typeface="a_AlbionicNr"/>
              </a:rPr>
              <a:t>     </a:t>
            </a:r>
            <a:r>
              <a:rPr b="0" lang="en-US" sz="10600" spc="-1" strike="noStrike">
                <a:solidFill>
                  <a:srgbClr val="ffff00"/>
                </a:solidFill>
                <a:latin typeface="a_AlbionicNr"/>
              </a:rPr>
              <a:t>нашия Бог!</a:t>
            </a:r>
            <a:r>
              <a:rPr b="0" lang="en-US" sz="8800" spc="-1" strike="noStrike">
                <a:solidFill>
                  <a:srgbClr val="ccffff"/>
                </a:solidFill>
                <a:latin typeface="a_AlbionicNr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85080" y="5157720"/>
            <a:ext cx="973080" cy="145728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9192" dir="2381944" blurRad="0" rotWithShape="0">
              <a:srgbClr val="000066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1182600" cy="22305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73964" dir="14336436" blurRad="0" rotWithShape="0">
              <a:srgbClr val="000066"/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87280" y="5013360"/>
            <a:ext cx="2087640" cy="149688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9604" dir="2700000" blurRad="0" rotWithShape="0">
              <a:srgbClr val="000066"/>
            </a:outerShdw>
          </a:effectLst>
        </p:spPr>
      </p:pic>
    </p:spTree>
  </p:cSld>
  <p:transition advTm="14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115920"/>
            <a:ext cx="8207280" cy="7314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Елате всички днес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всички днес и запейте в х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Пейте вий</a:t>
            </a:r>
            <a:r>
              <a:rPr b="0" lang="bg-BG" sz="7200" spc="-1" strike="noStrike">
                <a:solidFill>
                  <a:srgbClr val="ccffff"/>
                </a:solidFill>
                <a:latin typeface="a_AlbionicNr"/>
              </a:rPr>
              <a:t> </a:t>
            </a: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a_AlbionicNr"/>
              </a:rPr>
              <a:t>нашия Бог!</a:t>
            </a:r>
            <a:r>
              <a:rPr b="0" lang="en-US" sz="8800" spc="-1" strike="noStrike">
                <a:solidFill>
                  <a:srgbClr val="ccffff"/>
                </a:solidFill>
                <a:latin typeface="a_AlbionicNr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2276640"/>
            <a:ext cx="1326960" cy="19746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56832" dir="7003641" blurRad="0" rotWithShape="0">
              <a:srgbClr val="000066"/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67840" y="5229360"/>
            <a:ext cx="776160" cy="142704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1185" dir="3078030" blurRad="0" rotWithShape="0">
              <a:srgbClr val="000066"/>
            </a:outerShdw>
          </a:effectLst>
        </p:spPr>
      </p:pic>
    </p:spTree>
  </p:cSld>
  <p:transition advTm="14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sp>
        <p:nvSpPr>
          <p:cNvPr id="63" name=""/>
          <p:cNvSpPr/>
          <p:nvPr/>
        </p:nvSpPr>
        <p:spPr>
          <a:xfrm>
            <a:off x="209160" y="190080"/>
            <a:ext cx="8767080" cy="311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_AlbionicNr"/>
              </a:rPr>
              <a:t>Елате всички дне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_AlbionicNr"/>
              </a:rPr>
              <a:t>да слави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вечната Му люб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1457280" cy="194472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9192" dir="3018055" blurRad="0" rotWithShape="0">
              <a:srgbClr val="000099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1027080" cy="202068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1658" dir="7417659" blurRad="0" rotWithShape="0">
              <a:srgbClr val="000099"/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195640" y="4995720"/>
            <a:ext cx="2663640" cy="145764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99192" dir="3018055" blurRad="0" rotWithShape="0">
              <a:srgbClr val="000099"/>
            </a:outerShdw>
          </a:effectLst>
        </p:spPr>
      </p:pic>
    </p:spTree>
  </p:cSld>
  <p:transition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2000" y="-1726560"/>
            <a:ext cx="7993080" cy="701064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_AlbionicNr"/>
              </a:rPr>
              <a:t>Божият Син</a:t>
            </a:r>
            <a:r>
              <a:rPr b="0" lang="en-US" sz="6600" spc="-1" strike="noStrike">
                <a:solidFill>
                  <a:srgbClr val="ffffff"/>
                </a:solidFill>
                <a:latin typeface="a_AlbionicN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ff"/>
                </a:solidFill>
                <a:latin typeface="a_AlbionicNr"/>
              </a:rPr>
              <a:t>               </a:t>
            </a:r>
            <a:r>
              <a:rPr b="0" lang="en-US" sz="6600" spc="-1" strike="noStrike">
                <a:solidFill>
                  <a:srgbClr val="ffffff"/>
                </a:solidFill>
                <a:latin typeface="a_AlbionicNr"/>
              </a:rPr>
              <a:t>дойде 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_AlbionicNr"/>
              </a:rPr>
              <a:t>    </a:t>
            </a:r>
            <a:r>
              <a:rPr b="0" lang="en-US" sz="8800" spc="-1" strike="noStrike">
                <a:solidFill>
                  <a:srgbClr val="ffff00"/>
                </a:solidFill>
                <a:latin typeface="a_AlbionicNr"/>
              </a:rPr>
              <a:t>дари живот</a:t>
            </a:r>
            <a:r>
              <a:rPr b="0" lang="bg-BG" sz="8800" spc="-1" strike="noStrike">
                <a:solidFill>
                  <a:srgbClr val="ffff00"/>
                </a:solidFill>
                <a:latin typeface="a_AlbionicNr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2539800" cy="36720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9184" dir="7528307" blurRad="0" rotWithShape="0">
              <a:srgbClr val="000066"/>
            </a:outerShdw>
          </a:effectLst>
        </p:spPr>
      </p:pic>
    </p:spTree>
  </p:cSld>
  <p:transition advTm="6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240" y="404640"/>
            <a:ext cx="9000000" cy="58546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Ний славим Т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                   </a:t>
            </a:r>
            <a:r>
              <a:rPr b="0" lang="bg-BG" sz="5400" spc="-1" strike="noStrike">
                <a:solidFill>
                  <a:srgbClr val="ccffff"/>
                </a:solidFill>
                <a:latin typeface="a_AlbionicNr"/>
              </a:rPr>
              <a:t>Цар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за радостта и надежда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a_AlbionicNr"/>
              </a:rPr>
              <a:t>поднасяме Ти в Твоя чес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00"/>
                </a:solidFill>
                <a:latin typeface="a_AlbionicNr"/>
              </a:rPr>
              <a:t>таз песен на хв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097080" cy="22320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9604" dir="13500000" blurRad="0" rotWithShape="0">
              <a:srgbClr val="000066"/>
            </a:outerShdw>
          </a:effectLst>
        </p:spPr>
      </p:pic>
    </p:spTree>
  </p:cSld>
  <p:transition advTm="13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15920"/>
            <a:ext cx="8388360" cy="89290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Елате всички днес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AlbionicNr"/>
              </a:rPr>
              <a:t>всички днес и запейте в х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Пейте вий</a:t>
            </a:r>
            <a:r>
              <a:rPr b="0" lang="bg-BG" sz="7200" spc="-1" strike="noStrike">
                <a:solidFill>
                  <a:srgbClr val="ccffff"/>
                </a:solidFill>
                <a:latin typeface="a_AlbionicNr"/>
              </a:rPr>
              <a:t> </a:t>
            </a:r>
            <a:r>
              <a:rPr b="0" lang="en-US" sz="7200" spc="-1" strike="noStrike">
                <a:solidFill>
                  <a:srgbClr val="ccffff"/>
                </a:solidFill>
                <a:latin typeface="a_AlbionicNr"/>
              </a:rPr>
              <a:t>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600" spc="-1" strike="noStrike">
                <a:solidFill>
                  <a:srgbClr val="ffff00"/>
                </a:solidFill>
                <a:latin typeface="a_AlbionicNr"/>
              </a:rPr>
              <a:t>     </a:t>
            </a:r>
            <a:r>
              <a:rPr b="0" lang="en-US" sz="10600" spc="-1" strike="noStrike">
                <a:solidFill>
                  <a:srgbClr val="ffff00"/>
                </a:solidFill>
                <a:latin typeface="a_AlbionicNr"/>
              </a:rPr>
              <a:t>нашия Бог!</a:t>
            </a:r>
            <a:r>
              <a:rPr b="0" lang="en-US" sz="8800" spc="-1" strike="noStrike">
                <a:solidFill>
                  <a:srgbClr val="ccffff"/>
                </a:solidFill>
                <a:latin typeface="a_AlbionicNr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885080" y="5157720"/>
            <a:ext cx="973080" cy="145728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99192" dir="2381944" blurRad="0" rotWithShape="0">
              <a:srgbClr val="000066"/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1182600" cy="22305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73964" dir="14336436" blurRad="0" rotWithShape="0">
              <a:srgbClr val="000066"/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187280" y="5013360"/>
            <a:ext cx="2087640" cy="149688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89604" dir="2700000" blurRad="0" rotWithShape="0">
              <a:srgbClr val="000066"/>
            </a:outerShdw>
          </a:effectLst>
        </p:spPr>
      </p:pic>
    </p:spTree>
  </p:cSld>
  <p:transition advTm="14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0:43:00Z</dcterms:created>
  <dc:creator>Youth</dc:creator>
  <dc:description/>
  <dc:language>en-US</dc:language>
  <cp:lastModifiedBy>TrifonTrifonow</cp:lastModifiedBy>
  <dcterms:modified xsi:type="dcterms:W3CDTF">2005-10-22T20:43:39Z</dcterms:modified>
  <cp:revision>9</cp:revision>
  <dc:subject/>
  <dc:title>Slide 1</dc:title>
</cp:coreProperties>
</file>